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895D-D0AF-4CD2-A298-CC680FB5A7F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B4D-A0A9-4DD1-B924-F5D97501147C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8C2-B568-4BE3-841B-E724F506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30F-5103-4082-90E2-C4BA443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FA3-1BA7-425B-A3A4-608A6482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37F-D54A-40A1-8A77-6967F089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C85-1DB3-4DAE-9AF6-81603B2A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33B-4131-406D-99FD-0691349F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7E4-9DED-40DC-86D0-15AE19C1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402-601C-497E-ADEC-16B562EF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B84-39DF-4D6F-9FC8-29F4764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59F-E210-41FC-90B3-22858FE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DF9-6280-44E0-8FB3-F18F2A3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2BD-BAF1-48B6-8D9E-9B01C51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14E-6EC8-4AB8-AEF5-1504C712B2D3}" type="slidenum">
              <a:rPr b="0" lang="id-ID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Mengenal Potensi FRAUD pada Fasyankes, Pencegahan dan tinjauan dari Hukum Kesehatan dan Hukum Pid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Rorry Hart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gelang, 11 November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indakan kecurangan JKN</a:t>
            </a:r>
            <a:br>
              <a:rPr sz="4400"/>
            </a:b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rpres 19 Th 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S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lsukan status kepeser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lsukan kondisi keseha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berikan gratifik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nipulasi penghasi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gajukan klaim pal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TUGAS BPJ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laim pal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anipulasi manfaat yang seharusnya tidak dij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nahan pembayaran ke fas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Membayarkan dana kapitasi tidak sesuai ketentu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indakan kecurangan JKN</a:t>
            </a:r>
            <a:br>
              <a:rPr sz="44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rpres 19 Th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ROVIDER FK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19288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anfaatkan dana kapitasi tidak sesuai dengan ketentu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anipulasi klaim pada pelayanan yang dibayar secara non kapotas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erima komisi atas rujukan ke FKRT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arik niaya dari peser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lakukan rujukan pasien yang tidak sesu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ROVIDER FKT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28720" y="1928880"/>
            <a:ext cx="4714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ulisan kode diagnosis berlebih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jiplakan klaim dari pasien l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laim pal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gelembungan tagihan obat dan al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mecahan episode pelayan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Rujukan s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agihan berul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perpanjang lama perawa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indakan kecurangan JKN</a:t>
            </a:r>
            <a:br>
              <a:rPr sz="4400"/>
            </a:b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rpres 19 Th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ROVIDER FKT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572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talkan tindakan yang waj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lakukan tindakan yang tidak perl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yimpangan thd Std Y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ambahkan panjang waktu penggunaan venti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dak melakukan visitasi yang seharus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dak melakukan prosedur syang sesua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717200"/>
            <a:ext cx="421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Calibri"/>
              </a:rPr>
              <a:t>PENYEDIA OBAT DAN ALKES/ INDUSTRI FAR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692440"/>
            <a:ext cx="4213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dak memenuhi kebutuhan obat dan atau alkes sesuai ketentu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Upaya Pencegahan Fraud JK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"/>
          <p:cNvPicPr/>
          <p:nvPr/>
        </p:nvPicPr>
        <p:blipFill>
          <a:blip r:embed="rId1"/>
          <a:stretch/>
        </p:blipFill>
        <p:spPr>
          <a:xfrm>
            <a:off x="-6480" y="1584360"/>
            <a:ext cx="9156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MK 36/20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42640"/>
            <a:ext cx="4038480" cy="5521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aragraf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m Pencegahan Kecurangan JKN di FKT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asal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im Pencegahan  Kecurangan JKN di FKRTL terdiri atas unsur SPI, Komite Medik, Perekam Medik, Koder, dan unsur lain yang terka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214280"/>
            <a:ext cx="4038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SK Direktur RS 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TENT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PEMBENTUKANTIM PENCEGAHAN KECURANGAN PEMBIAYAAN (FRAUD) RUMAH SAKIT 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SK DIREKTUR NOMOR ...TENTANG....PEMBENTUKAN TIM PENCEGAHAN KECURANGAN PEMBIAYAAN (FRAUD) RS...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Struktur Organisas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Ketua/ Sekretaris/ Bagian Analisa Data Klaim/Bagian Audit Klinis/ Bagian Investigasi dan Pelaporan / Anggo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"/>
          <p:cNvPicPr/>
          <p:nvPr/>
        </p:nvPicPr>
        <p:blipFill>
          <a:blip r:embed="rId1"/>
          <a:stretch/>
        </p:blipFill>
        <p:spPr>
          <a:xfrm>
            <a:off x="4632480" y="1596960"/>
            <a:ext cx="4073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Tugas Tim Anti Fr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yusun dan menetapkan serta mengevaluasi kebijakan terkait pencegahan kecurangan pembiayaan (frau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yosialisasikan kebijakan, regulasi dan budaya baru yang berorientasi pada kendali mutu dan kendali bia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dorong pelaksanaan tata kelola organisasi dan tata kelola klinik yang ba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yusun program pencegahan kecurangan pembiayaan (fraud) dan mengevaluasi pelaksanaan program ts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lakukan pertemuan berkala, termasuk evaluasi kebijak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mbuat laporan kpd Direktur terkait pencegahan kecurangan pembiaya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Berkoordinasi dengan unit terka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lakukan deteksi dini kecurangan pembiayaan berdasarkan berdasarkan data klaim pelayanan  kesehatan yang dilakukan oleh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ingkatkan kemampuan koder, serta dokter  dan petugas lain yang berkaitan dengan klai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lakukan upaya pencegahan, deteksi dan penindakan kecurangan pembiaya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ngembangkan, mengimplementasikan dan secara periodik mengkaji kembali rencana tim apakah telah sesuai kebijakan manajemen rumah sak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Melakukan pengawasan terhadap tindakan-tindakan yang menyimpang dari prosedur/monitoring surveilans pro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Identifikasi potensial fr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1413000"/>
          <a:ext cx="8207280" cy="501804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9960" indent="-3999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SS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Pemalsuan status  Kepesertaan Untuk Memperoleh pelayan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Gratifikasi kepada Pemberi layan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9960" indent="-399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INITY-1  ( Finger scan and Photo Identifica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kasi data man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v  dengan integrated CC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berupa Pakta Integr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357120"/>
          <a:ext cx="8209080" cy="614376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 POLI SPESIALIS RAWAT JA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im Palsu / Phanthom bi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mecahan Episode Pelayanan / Service Frag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jukan Semu / Self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Sharing yang tidak sesuai Perund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 dan Verifikasi  Claim bersama dengan Tim Casemix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asi PIC unit Rawat jalan sebagai complain Handling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</a:t>
                      </a: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akta integ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57120" y="58680"/>
          <a:ext cx="8209080" cy="7085160"/>
        </p:xfrm>
        <a:graphic>
          <a:graphicData uri="http://schemas.openxmlformats.org/drawingml/2006/table">
            <a:tbl>
              <a:tblPr/>
              <a:tblGrid>
                <a:gridCol w="4103640"/>
                <a:gridCol w="410544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 INSTALASI FARM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im palsu / Phanthom bi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jiplakan klaim /Cl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elembungan Tagihan Obat / inflated b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minta cost sharing tidak sesuai dengan regul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kasi resep oleh apote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program P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 dan Verifikasi  Claim bersama dengan Tim Casemix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Pakta Integr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ang CC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dahulu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kembangan Jaminan Kesehatan Nasional berbagai pihak juga berusaha untuk memperoleh manfaat yang sebesar-besar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otensi terjadi perbuatan atau tindakan yang tidak sesuai dengan ketentuan untuk peroleh keuntungan dengan cara curang, memanfaatkan celah yang bisa dimanfaatk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428760"/>
          <a:ext cx="8207280" cy="61959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 INSTALASI FARMASI/ LABORATORIUM/ RADIO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im palsu / Phanthom bi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jiplakan klaim /Cl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ggelembungan Tagihan Obat / inflated bi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kasi resep oleh apote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aya Identifikasi pasien oleh staf med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program P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mbar protokol tera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500040"/>
          <a:ext cx="8207280" cy="64278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RUANG RAWAT I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Sharing yang tidak sesuai Perundan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jukan Semu / Self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si kelas perawatan / tipe of room 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yimpangan Standar Pelayanan / Standar of c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ambah panjang waktu ventil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dak ada cost shar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jukan sesuai alur rujukan berjenjang- rujukan berbasis kompetens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U Bidadari menyediakan data ketersediaan tempat tidur pada APLIC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rsama Komite Medik monitoring PPK dan 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si pencatatan pasien yang baik di ruang intens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Pakta integ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8760" y="357120"/>
          <a:ext cx="8208720" cy="6172200"/>
        </p:xfrm>
        <a:graphic>
          <a:graphicData uri="http://schemas.openxmlformats.org/drawingml/2006/table">
            <a:tbl>
              <a:tblPr/>
              <a:tblGrid>
                <a:gridCol w="4103640"/>
                <a:gridCol w="41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 RUANG RAWAT I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dak melakukan visitasi yang seharusnya / Phanthom Vi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dak melakukan Prosedur yang seharusnya / Phanthom Pros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si Berulang / Readmi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akukan rujukan pasien dengan tujuan memperoleh keuntungan tertent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arenR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case manager dan billing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billing sistem yang terintegrasi dengan SIRS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catatan Khusus pasien Readmis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jukan berjenjang sesuai kompetens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Pakta Integ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68360" y="285840"/>
          <a:ext cx="8207280" cy="618804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 KAS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im pals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jiplakan kla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ihan berul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si kelas perawat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 Informasi Rumah Sakit yang terintegrasi di tiap unit pelayanan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Pakta integrit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ang CCT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8360" y="428760"/>
          <a:ext cx="8207280" cy="600048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SIAL FRAU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AYA 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 Tim Case M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ulisan Kode diagnosa yang berlebihan/ Up- Co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im Palsu / Phanthom bi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jiplakan klaim /Cl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gihan Berulang/ Repeat Bi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kasi berjenj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ingkatkan kemampuan dan pemahaman coder tentang sistem INACB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dan evaluasi tim Casemix dan Komite Medis.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itmen Pakta Integri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Upaya Pencegahan BPJS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yusun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bijak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doman pencegah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curang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embang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udaya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cegahan kecurang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JK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 sbagi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ri tatakelola organisasi yang baik,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mbentuk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cegahan Kecuran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JKN di BPJS Keseh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Upaya Pencegahan FK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yusun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bijak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do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cegahan Kecurangan JK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embang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layan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sehatanyang berorientasi kepada kendali mutu dan kendali bi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mbentuk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m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cegahan Kecurang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JKN di FK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gembang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udaya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cegahan Kecurangan JKN sebagai bagian dari tata kelola organisasi dan tata kelola klinis yang ba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Upaya Pencegahan FK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1. Tim terdiri atas unsur dinas kesehatan, organisasi profesi, BPJS Kesehatan, dan asosiasi fasilitas kesehat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ugas Tim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sosialisasikan kebijakan, pedoman, dan budaya baru yang berorientasi pada kendali mutu dan kendali biay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dorong pelaksanaan tata kelola organisasi dan 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lola klinik yang bai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lakukan upaya pencegahan, deteksi dan penindak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curangan JKN di FKT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yelesaikan perselisihan Kecurangan JK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lakukan monitoring, evaluasi dan Pelapo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Upaya Pencegahan FKRT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213920"/>
            <a:ext cx="8858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1. Penyusunan kebijakan dan pedoman pencegahan Kecurangan JKN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embangan pelayanan kesehatan yang berorientasi kepada kendali mutu dan kendali biaya, dilakukan melalu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. Penggunaan konsep manajemen yang efektif dan efisie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b. Penggunaan teknologi informasi berbasis bukti; 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. Pembentukan tim pencegahan Kecurangan JKN di FKRT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embangan budaya pencegahan Kecurangan JKN sebagai bagian dari tata kelola organisasi dan tata kelola klinis yang berorientasi kepada kendali mutu dan kendali bia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istem pencegahan kecurangan meliputi rumah sakit dan klinik utama dan yang set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Budaya pencegahan fraud FKRT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 Ketepat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ompetensi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wenangan tenaga kesehatan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 Penerap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standar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layan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doman 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layanan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lini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n clinical pathwa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 Audit klinis;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 Penetapan prosedur Kla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Fraud di 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sih dianggap belum terbukti terjadi karena belum ada kriteria yang 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asih dianggap sebagai suatu tindakan yang merupakan kesalahan ke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erpotensi kriminalisasi dokter dan nakes kalau kriteria tidak 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INA CBG dan Kapitasi belum dapat memenuhi kebutuhan pemberi pelayanan jadi alasan kompensasi selisih biaya/ tar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FKTRL bentuk pencegahan fr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m terdiri atas satuan pemeriksaan internal, komite medik, perekam medis, Koder, dan unsur lain yang terkait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giatan pencegahan di FKRTL meliput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lakukan deteksi dini Kecurangan JKN berdasarkan data Klaim pelayanan kesehatan yang dilakukan oleh FKTRL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b. Menyosialisasikan kebijakan, regulasi, dan budaya baru yang berorientasi pada kendali mutu dan kendali biay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c.  Mendorong pelaksanaan tata kelola organisasi dan tata kelola klinik yang baik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.  meningkatkan kemampuan Koder, serta dokter dan petugas lain yang berkaitan dengan Klai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.  melakukan upaya pencegahan, deteksi dan penindakanKecurangan JKN;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onitoring evaluasi;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g.  Pelapo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Peningkatan kemampuan dokter dan petugas l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ingkatkan akurasi koding untuk menceg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salaha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Edukasi tentang pengetahuan Kecurangan JK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 Pelatihan dan edukasi koding yang bena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 Penyesuaian beban kerja Koder dengan jumlah tenaga dan kompetensinya;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5. Meningkatkan interaksi dengan staf klinis dalam rang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mastikan diagnosa primer dan sekun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ingkatan kemampuan co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mahaman dan penggunaan si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oding yang berlak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2. Melakukan edukasi dan pemberian pemahaman tentang langkahlangkah pencegahan dan sanksi Kecurangan JK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ingkatkan ketaatan terhadap sta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rosedur operasional;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ulis dan memberikan resume medis secara jelas, lengkap dan tepat wa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ingkatan manajemen fas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840" y="7858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21560" indent="-4215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guatan tugas Koder sebagai pendamping verifikator, investigator,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aud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internal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ad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atuan pemeriksaan internal yang khusus untuk audit klaim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2. Melakukan surveilans data atau audit data ruti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3. Pengguna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rangkat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luna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unt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encegahan Kecurangan JK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4. Membuat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andu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rakti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lini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ad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setiap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jenis layan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 deng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gimplementasik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linical path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5. Membentu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im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edukasi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epada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pasie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tenaga kesehat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6. Membuat kebijakan prosedur dan pengendalian efektif untuk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ghalangi,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cegah,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ngetahui, melaporkan, dan memperbaiki potensi Kecurangan JK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1560" indent="-421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Sanksi administra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Teguran lis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Teguran tertulis; dan/ata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alibri"/>
              </a:rPr>
              <a:t>Perintah pengembalian kerugian akibat kecurangan JKN kepada pihak yang dirugik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Jenis sanksi yang bisa dikenak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asus klaim palsu/ phamtom biling oleh FKRT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 BPJSK No 7/ 2016 pasal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BPJSK menghentikan  perjanjiaian kerjasama dengan FKTP dan FKRTL milik swasta (penghentian kerjasama 1-2 tahun, penghentia daerahn dapat dikecualikan dengan memperhatikan kecukupan faskes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MK 36/2016 pasal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Menkes, Kepala Dinkes Prov/Kab/Kota dapat menjatuhkan sanksi administras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eguran li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Teguran tert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rintah pengembalian kerugian akibat kecurangan JKN kepada pihak yang dirugi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Denda pasling banyak 50% dari jumlah pengembalian kerugian akibat kecurangan JKN (kepala faskes dan penyedia obat/alk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Pencabutan Izin Praktik (Kepada tenaga k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UHP. Pasal 268 (pemalsuan doku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UHP pasal 378 (penipu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U 31/1999 jo UU 20/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2 (melawan hu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3 (menyalahgunakan kewenang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8 (Penggelapan dalam jaba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9 (Pemalsuan untuk pemeriksaan admninstra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20 (TPK Koorpora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. dapat dikenakan pasal 12 jika terbukti menerima gratifik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Oknum Pegawai BPJSK tidak terpu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 BPJSK No 7 Th 2016 pasal 23 : sanksi sesuai dengan peraturan kepegawaian  atas pelanggaran kode etik dan disip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MK 36/2016 pasal 29 : Menkes, Kadinkes Prov/ Kab/ Kota merekugikanomendasikan kepada BPJSK untuk memberikan sanksi administrasi kepada petugas BPJSK  berupa : teguran lisan, teguran tertulis, pemberhentian dari jabatan, pemecatan, perintah pengemballian kerugian akibat kecurangan JKN kepada pihak yang d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Pengertian Fr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-320760">
              <a:lnSpc>
                <a:spcPct val="100000"/>
              </a:lnSpc>
              <a:buClr>
                <a:srgbClr val="c0504d"/>
              </a:buClr>
              <a:buSzPct val="60000"/>
              <a:buFont typeface="Arial"/>
              <a:buChar char="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ecara umum, fraud adalah sebuah tindakan kriminal menggunakan metode-metode yang tidak jujur untuk mengambil keuntungan dari orang 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rriam-Webster Online Dic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na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buClr>
                <a:srgbClr val="c0504d"/>
              </a:buClr>
              <a:buSzPct val="60000"/>
              <a:buFont typeface="Arial"/>
              <a:buChar char="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ara khusus, fraud dalam jaminan kesehatan didefinisikan sebagai sebuah tindakan untuk mencurangi atau mendapat manfaat program layanan kesehatan dengan cara yang tidak sepantasny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IPAA Report, 1996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UHP Pasal 263 (pemalsuan doku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UHP Pasal 378 (Penipu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UHP Pasal 372 (Penggelap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UU 31/ 1999 jo UU 20 2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2 (melawan hu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8 (Penggelapan dalam jaba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asal 9 (Pemalsuan untuk pemeriksaan admninstra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Dapat dikenakan pasal 12 jika terbukti menerima gratifika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ERIMA KAS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gertian Frau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buatan-perbuatan yang melawan hukum yang dilakukan dengan sengaja untuk tujuan tertentu dilakukan orang-orang dari dalam atau dari luar organisasi untuk mendapatkankeuntungan pribadi ataupun kelompok secara langsung atau tidak langsung merugikan pihk la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(The Association od CertifiedFraud Examiners. AC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ngertian Fraud JK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Fraud adalah tindakan yang dilakukan dengan sengaja untuk mendapatkan keuntungan finansial dari program JKN dalam sistem jaminan sosial nasional melalui perbuatan yang tidak sesuai dengan ketentu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aturan Presiden No 19 tahun 2016 tentang perubahan ke dua atas Peraturan Presiden No 12 Tahun 2013 tentang Jaminan Kesehatan pasal 1 angka 14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400" y="642960"/>
            <a:ext cx="8515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Arial Narrow"/>
              </a:rPr>
              <a:t>Di mana ada gula, di situ ada sem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f497d"/>
                </a:solidFill>
                <a:latin typeface="Arial Narrow"/>
              </a:rPr>
              <a:t>Di mana ada uang, di situ 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peluang </a:t>
            </a:r>
            <a:r>
              <a:rPr b="1" i="1" lang="it-IT" sz="3200" spc="-1" strike="noStrike">
                <a:solidFill>
                  <a:srgbClr val="1f497d"/>
                </a:solidFill>
                <a:latin typeface="Arial Narrow"/>
              </a:rPr>
              <a:t>terjadi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Penyimpangan....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Kebijaksanaan yang menyimpang kalau tidak 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ditemukan adalah keuntunga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sv-SE" sz="3200" spc="-1" strike="noStrike">
                <a:solidFill>
                  <a:srgbClr val="1f497d"/>
                </a:solidFill>
                <a:latin typeface="Arial Narrow"/>
              </a:rPr>
              <a:t>dan bilamana ditemukan baru disebut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    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1" i="1" lang="id-ID" sz="3200" spc="-1" strike="noStrike">
                <a:solidFill>
                  <a:srgbClr val="1f497d"/>
                </a:solidFill>
                <a:latin typeface="Arial Narrow"/>
              </a:rPr>
              <a:t>kecuran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D49-B6B3-453E-A519-B9DB3A796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elaku Fraud JK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se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tugas BPJ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mberi pelayanan keseh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nyedia Obat dan Alat Keseha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PMK 36 Th.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Calibri"/>
              </a:rPr>
              <a:t>Potensi Fraud di 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Kebijakan di tingkat nasional mendorong terjadinya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Tidak ada aturan dan pengawasan yang 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rsepsi klinisi tarif terlalu rend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Fraud diinisiasi oleh manajemen 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Pemahaman rendah tentang fraud dan kemampuan manajemen mengelola keuangan 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800" spc="-1" strike="noStrike">
                <a:solidFill>
                  <a:srgbClr val="000000"/>
                </a:solidFill>
                <a:latin typeface="Calibri"/>
              </a:rPr>
              <a:t>Dikutip dari slide Prof Laksono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3:45:48Z</dcterms:created>
  <dc:creator>RorryH</dc:creator>
  <dc:description/>
  <dc:language>en-US</dc:language>
  <cp:lastModifiedBy>RorryH</cp:lastModifiedBy>
  <dcterms:modified xsi:type="dcterms:W3CDTF">2017-11-10T09:49:20Z</dcterms:modified>
  <cp:revision>72</cp:revision>
  <dc:subject/>
  <dc:title>FRAUD</dc:title>
</cp:coreProperties>
</file>